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C64F4-60D6-4CAE-AE23-9ECB54FC43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3CEAC-5F1B-42EA-BC2A-A37D15322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EE63F-8914-46B1-9B36-ABABE3F24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2019E-CBA5-49A1-8189-27AF1C829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ma vez estudados e divulgados os resultados, o passo seguinte consiste em preparar um plano de ação para abordar áreas que motivem preocupação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s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Use exemplos relevantes do seu próprio paí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9905A-50E8-4E28-B49F-B068ED64E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8E2B0-A7B2-4105-98D7-FF17C5FF83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inicial está completo. No entanto, uma melhoria contínua requer que se inicie o planeamento de outra avaliação da situação. Em alternative, as instituições podem preferir iniciar o planeamento de uma avaliação ou auditoria que permita garantir que o plano de ação abordou o problema (p.ex. prescrição antibiótica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coordenadores nacionais do HALT coordinators devem atualizar esta secção com recursos sobre PCI relevantes para os seus paí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AD2DC-EE70-4854-AE8F-059048A0E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A82DD-785A-4B8B-A9F9-2294D32844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Para melhorar o cuidado dos residentes, toda a equipa de trabalho da “UCC” precisa de conhecer os resultados do estudo e que melhorias/mudanças estão planeadas como resposta a esse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5379C-1F88-4D7F-8409-F3C6AA77F4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iclo de Melhoria (“Audit Cycle”) (planear, fazer, avaliar e agir) garante que os resultados do HALT-3 são usados para melhorar o cuidado aos residentes. Nesta altura, as instituições participantes completaram o estudo e portanto agora os resultados necessitam de ser avaliados e deve-se agir sobre e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E0579-DE32-41DD-9442-4848B7E65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Nota para o apresentador: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No entanto, dado que nem todos os centros participantes terão acesso a um GCL, nós forneceremos um breve resumo com os pontos-chave a considerar quando se der informação de retorno sobre os result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4027F-7BD2-4165-A026-31E248143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F32-8068-4A92-9291-7DCE066F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534-57D9-4967-9DAD-B5CD3DE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AE9-0B0F-4DE1-9546-F8E1C97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62E-A4EA-4AA4-AC9D-DA4FAE4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E20-A7ED-4ED0-A4BC-E912391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5A-960D-4DF5-9BEB-CFA51D9D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08B-F21B-436D-8E60-15AD2C0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3D0-712B-411B-AC4B-42DBB12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677-EEFD-4DDC-BED8-2641414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E5D-42FD-4F28-95E4-AAABF0B4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DC4-B892-4F36-8945-0498AFE0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F89-F6C3-413B-A29F-E4F4249A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CBA5-5900-4892-9AAA-5D3B8C8F44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522BA-F89D-471F-A642-FC3B0B515B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E3414-0649-4179-87B4-51D867B4D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69AA3-880C-44B1-B51F-65F957D42F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F63C4-27CF-4E6F-9FD2-39ECDE91FA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40A1-09BF-4156-920B-9ED0F6298A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7A095-D8D5-4BD8-BD36-7E38DC1486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DDA02-1939-4E8F-AF86-77F597F20D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78F23-9DFB-4F39-A2DB-F950BC5420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7AA5F-E7C7-481C-921C-20E85400F7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3AB45-39F1-4B81-928A-4226B43CC9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C47B0-3379-48ED-85A5-7CD94CDD9A3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12435-5DC1-4231-B552-5640A2949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B8F9-1ED8-48E6-A389-D25E8D3454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D92D-7739-4639-B8F6-C7F58AEFD6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BAC24-DF54-4983-A10C-4F737B67CC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57D9D-FA0E-4EC0-8EAE-57DAD9F436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292D0-90D0-4910-AFAB-9DA72270FA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5A73-8EE4-423A-A022-0AB199C6DD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1161C-5113-4930-8C13-4EDF85B0A56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25AB-2DC7-4AC8-AF03-A9F69599A6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7359-078B-4658-8ACA-508D721C77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FC22-71C6-47DD-9310-BEBD3C83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4000" y="142920"/>
            <a:ext cx="82296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688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0120" y="107964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2400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688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0120" y="3776400"/>
            <a:ext cx="274536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9075A-73F8-4B2D-B0EB-8CDEA1D3C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2960" y="377640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960" y="1079640"/>
            <a:ext cx="416052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76400"/>
            <a:ext cx="8526240" cy="24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9445-1BA9-4A1C-9DC5-0155882A9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FF20A-AB49-4D20-A8BF-AE7F9A11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resentation_Template_Title_new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423200" y="504720"/>
            <a:ext cx="1263600" cy="1136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2D99C-68CC-4EB2-8137-6C7A2C65C85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Presentation_Template_Innerpage_new"/>
          <p:cNvPicPr/>
          <p:nvPr/>
        </p:nvPicPr>
        <p:blipFill>
          <a:blip r:embed="rId2"/>
          <a:srcRect l="0" t="92173" r="0" b="0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096400" y="108000"/>
            <a:ext cx="882360" cy="793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e2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24000" y="1079640"/>
            <a:ext cx="85262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F53D4-754E-4DF3-8C24-EED34A910AA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691080"/>
            <a:ext cx="845640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9</a:t>
            </a:r>
            <a:endParaRPr b="1" lang="en-US" sz="32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4000" y="4317840"/>
            <a:ext cx="8456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Tahoma"/>
              </a:rPr>
              <a:t>Participámos! E agora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407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DIVULGAR OS RESULTADOS: QUAN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736640"/>
            <a:ext cx="8526240" cy="50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pidamente após o estudo, para que se possa atu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rocure ter resultados disponíveis em 3-4 meses e preferivelmente não mais de 6 meses após o estudo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743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DIVULGAR A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017800"/>
            <a:ext cx="852624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ada instituição deve decidir qual a melhor forma de divulgar os resultados aos diferentes grup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presentações formais e inform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latório escr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lhet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Incluir a divulgação dos resultados em programas de formação regu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630440"/>
            <a:ext cx="8526240" cy="46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 preparar e implementar um plano de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O plano de ação de incluir prazos e pessoa(s) nomeada(s) como responsáveis por cada elemento do pl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Administração da instituição de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onitorizar a implementação do plano de 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Planificar a realização de vigilâncias / auditorias repetidas para garantir que o plano de ação aborda os aspetos necessá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24000" y="1351080"/>
            <a:ext cx="86868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lementar uma 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list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de auditoria e monitorização para medir a adesão a todas as recomendações de prevenção e controlo de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pacitar os enfermeiros para rever as análises de ur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zer circular as recomendações nacionais entre os prescritores: “Feixe de Intervenções de Prevenção da Infeção Urinária Associada ao Cateter Vesical” (</a:t>
            </a:r>
            <a:r>
              <a:rPr b="0" i="1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rma DGS 019/2015</a:t>
            </a: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, “Terapêutica de infeções do aparelho urinário (comunidade)”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Norma DGS 015/2011)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mover um estudo piloto de um feixe de intervenções de terapêutica antimicrobiana.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863800" y="5365800"/>
            <a:ext cx="6135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1800" spc="-1" strike="noStrike">
                <a:solidFill>
                  <a:srgbClr val="4d4d4d"/>
                </a:solidFill>
                <a:latin typeface="Comic Sans MS"/>
                <a:ea typeface="ＭＳ Ｐゴシック"/>
              </a:rPr>
              <a:t>Moran &amp;  Rooney;  Patient Safety Conference, Royal College of Physicians,  Dublin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LANO DE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36600" y="155520"/>
            <a:ext cx="7834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COMO PODE O CUIDADO AOS RESIDENTES SER MELHORAD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85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AVALIAR O HALT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1207800"/>
            <a:ext cx="8526240" cy="50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eveja a sua experiência de realização do estudo na sua instituiç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ider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treino foi suficiente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 estudo demorou quanto tempo a ser complet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problemas ocorreram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 que forma poderia o estudo ser melhora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sua instituição estaria interessada em repetir o estudo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ê informação de retorno com os seus comentários ao seu coordenador nacio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SUM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526760"/>
            <a:ext cx="85262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A realização de qualquer projeto de vigilância exige empenho e recur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No entanto, os residentes só irão beneficiar s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Os resultados forem comunicados à equipa de trabalho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For desenvolvido um plano de ação para abordar quaisquer lacunas e deficiências identific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RECURS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079640"/>
            <a:ext cx="862776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udorf U 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et a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althcare-associated infections in long-term care facilities (HALT) in Frankfurt am Main, Germany, January to March 2011. Euro Surveill. 2012;17(35):pii=20256. Available online: http://www.eurosurveillance.org/ViewArticle.aspx?ArticleId=20256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radley S.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Strategies to improve outcomes in nursing home residents with modifiable risk factors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respiratory tract infections. Pennsylvania Patient Safety Advisory;  2011; 8 (4): 131-7 http://patientsafetyauthority.org/ADVISORIES/AdvisoryLibrary/2011/dec8(4)/Pages/131.aspx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ational Clinical Guideline Centre: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Infection: prevention and control of healthcare-associated infections in primary and community care. 2012  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 http://www.nice.org.uk/nicemedia/live/13684/58654/58654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ahoma"/>
              </a:rPr>
              <a:t>HSE/HPSC 2011. Diagnosis &amp; Management of Urinary Tract Infection in Long Term Care Residents &gt;65yrs. http://www.hpsc.ie/hpsc/A-Z/MicrobiologyAntimicrobialResistance/InfectionControlandHAI/Guidelines/File,12929,en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OBJETIVOS DA APRESENT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a informação pode ser usada para a 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Sublinhar como deve ser dada a informação de retorno sobre o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m deverá receber informação de retorn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e informação deverá ser incluid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plicar como deve ser entregue a informação de re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Quand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352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o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Exemplificar como se pode melhorar o cuidado dos resid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Descrever como pode ser avaliada a experiência de participação no estudo HALT-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ff"/>
                </a:solidFill>
                <a:latin typeface="Calibri"/>
              </a:rPr>
              <a:t>INFORMAÇÃO PARA A AÇÃ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10699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ahoma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lheita e análise sistemática dos d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ahoma"/>
              </a:rPr>
              <a:t>e o uso desta informação para a </a:t>
            </a:r>
            <a:r>
              <a:rPr b="0" i="1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ação</a:t>
            </a:r>
            <a:r>
              <a:rPr b="0" lang="pt-PT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p.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Melhorar o cuidado aos resid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a ocorrência de IACS preveníve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duzir o uso inapropriado de antibió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55680" indent="-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com outras instituições com o mesmo tipo de do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4000" y="1079640"/>
            <a:ext cx="8526240" cy="51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ICLO DE MELH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42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INFORMAÇÃO PARA A AÇÃO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080" y="554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PREPARANDO A INFORMAÇÃO DE RETORNO SOBRE OS RESULTADOS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4080" y="1805040"/>
            <a:ext cx="85266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Consulte a sua equipa local de prevenção e controlo de infeção (GCL) e solicite apoio par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ar os seus resultados com outros locais/nacionais/internation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dequar a informação de retorno aos diferentes grupos da equipa de trabal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xplique os dados sobre os fatores de ri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7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Desenvolva planos de ação dirigidos a áreas de particular preocup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4160" y="6397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M DEVERÁ RECEBER INFORMAÇÃO DE RETORN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590840"/>
            <a:ext cx="8526240" cy="46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A equipa superior de gestão operacional (Administraçã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issão de prevenção e controlo da infeção (GCL-PPCIR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Todos os membros relevantes da equipa cuidadora (médicos, enfermeiros, assistentes operacionais, etc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Residentes e famílias/cuid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Em alguns países pode ser exigido relatório externo (p.ex. serviços de saúde pública, entidades reguladoras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81080" indent="-181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5662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5000" y="1144440"/>
            <a:ext cx="8701200" cy="51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O centro coordenador nacional pode fornecer um relatório loca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Se for VOCÊ a elaborar o relatório, inclu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Número de residentes elegíveis para particip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infeção(õe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Tipo de infeçõe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sob antimicrobiano(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Inclua os tipos de antimicrobianos e porque foram prescritos (terapêutica/profilaxi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fatores de risco para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% de residentes com cateter urinário/cateteres vasculares/feridas/úlceras de pressão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prevenção e controlo de infe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810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Recursos para apoio à prescrição antibió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6040" indent="-17604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4440" y="75528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69ae23"/>
                </a:solidFill>
                <a:latin typeface="Tahoma"/>
              </a:rPr>
              <a:t>QUE INFORMAÇÃO?(2)</a:t>
            </a:r>
            <a:endParaRPr b="1" lang="en-US" sz="2800" spc="-1" strike="noStrike">
              <a:solidFill>
                <a:srgbClr val="69ae23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44080" y="1715760"/>
            <a:ext cx="852660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instituições semelh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Compare com os resultados do estudo HALT de 2010 ou 2013, se realizados na instituiçã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ff0000"/>
                </a:solidFill>
                <a:latin typeface="Tahoma"/>
              </a:rPr>
              <a:t>Cuidado ao comparar taxas de infeção, já que as definições de IACS utilizadas em 2010 e 2013 não são as mesmas que as usadas no presente estu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74600">
              <a:lnSpc>
                <a:spcPts val="2599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Os dados de antimicrobianos e fatores de risco permaneceram maioritariamente inalterados e podem ser compar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9:01:59Z</dcterms:created>
  <dc:creator>David Daly</dc:creator>
  <dc:description/>
  <dc:language>en-US</dc:language>
  <cp:lastModifiedBy>Margarida</cp:lastModifiedBy>
  <cp:lastPrinted>2012-06-14T09:00:27Z</cp:lastPrinted>
  <dcterms:modified xsi:type="dcterms:W3CDTF">2017-03-12T17:24:59Z</dcterms:modified>
  <cp:revision>290</cp:revision>
  <dc:subject/>
  <dc:title>Preparing for participation in HALT-2</dc:title>
</cp:coreProperties>
</file>